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575-6F31-4C5C-AD70-D5EBBF4B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E53F-098A-4CED-9940-49F8629B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88E-C611-45A9-9CBA-603A4CBA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592B-D2E6-4A6E-AE80-4F518C09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3C89-E097-4450-A61E-75320EF9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C1A8-1A57-4D69-B5A4-D0386954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F5B5-C612-493A-BDC8-8D82DE3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D7BD-BE33-454E-ADEB-E4408171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DFFA-C375-4A48-B732-F754B143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FD3B-4783-44E2-A751-01CD7C0E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8AC4-9709-43B3-8D23-DB932C70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B61E-FC82-45FF-945C-6467E1BF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D30C-D7ED-419F-ADD3-DEC24C4A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437C-9AC2-4275-9002-51454DF9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4004-FB67-4C3E-9503-589E5B7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2955-A868-4851-9794-86D52323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8E21-98E8-49BB-BA55-CDA6B067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5A3-AC8A-48F5-96D2-0FF4F323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2C7-F766-4533-9282-CE8CCCC4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E73-FE8F-4743-8045-1A6C18DB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9AA-E404-4294-9505-A76DFE9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9BF-1841-4ECC-9EF0-DBB8C1CB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69A-F270-4DED-BBA3-C68C816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63A-6E40-45A7-9B85-4C071972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9399-1D6A-44D1-A07B-999A4C283E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301-12D4-4A13-BED7-178DDA3B88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msreading.wikispaces.com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1532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jmsreading.wikispaces.co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m Sug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kes hors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no fami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9 years ol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 Jeb Stuart’s regi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ts freaked out at the site of the dead horses after the batt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lora Wheelwor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ealth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ns-in-law go to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rts Soldier’s Friend Leagu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nder why the Confederate Army is not advanc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ome becomes a hospital for wounde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by Boy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1 years ol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xious to figh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lays the fif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o young to figh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t used to the drunk and rowdy men in cam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ns home scared after he sees dying m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irgil Peav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des a train for the 1</a:t>
            </a:r>
            <a:r>
              <a:rPr b="0" lang="en-US" sz="27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ti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ghts with Bee’s briga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kes a pact with Tu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uck is shot and killed and Virgil leaves him behi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r. William Ry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is trade is heal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kes soldiers well just so they can go to battle and di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utting off arms and leg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dah Jenki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es Colonel Ellsworth get sho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urier – rides a hors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oses his hors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ides to the battlefront to get word on the Yank’s posi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rlotta 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 woman to a Lieutena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me up from 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e wants to run to freedom, but is afraid she will get sent back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ly Mallo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ther is hars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rick is her brot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rick runs away to fight in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atrick is killed in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ideon Ada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lack m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ies to act whi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nges his nam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$13.00 per mon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ecides to re-enl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nts to figh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te soldiers talk badly about blacks in his pres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es not get to fight in the batt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mes Dac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ketch artist for newspap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ravels w/u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es Zuave soldiers with Ellswor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 upset he can’t draw after the skirmish he se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ubts the U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nders why the Union is just giving u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ackground Inform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rst Battle of Manassas – Bull R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ccurred on July 21,186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Irvin McDowell – commander of the Union Army – 35,000 troo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l P.G.T. Beauregard – commander of the Confederate force – 22,000 troop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ion Army lost this battle at Bull R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haniel Ep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hotograph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ges 20 cents for phot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es not have o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etrich Her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rman immigra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eeps picture in his pocket of lady that made his shi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ts suicide note in his shir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nded and left for dead on battle fiel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legs amputate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eneral Irvin McDowe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only lead 100 m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oes not have a map of Virgini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experienc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oldiers want to leave the un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e watches his line fall apart as they lose the battl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.B. Tilbu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ots cannon for the U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ttacked by Confederates that were dressed in blu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hot in both arms, but could ru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mund Upw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rriage driver for 2 Union Congressmen and their wiv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stens to what they are saying without them know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nds escape rou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Has to escape the picnic area once the Union start retreat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787px-US_Secession_map_1861_svg"/>
          <p:cNvPicPr/>
          <p:nvPr/>
        </p:nvPicPr>
        <p:blipFill>
          <a:blip r:embed="rId1"/>
          <a:stretch/>
        </p:blipFill>
        <p:spPr>
          <a:xfrm>
            <a:off x="380880" y="533520"/>
            <a:ext cx="8487000" cy="5208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8"/>
          <p:cNvSpPr/>
          <p:nvPr/>
        </p:nvSpPr>
        <p:spPr>
          <a:xfrm>
            <a:off x="6934320" y="277956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937560" y="274320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Map Showing Confederate Success"/>
          <p:cNvPicPr/>
          <p:nvPr/>
        </p:nvPicPr>
        <p:blipFill>
          <a:blip r:embed="rId1"/>
          <a:stretch/>
        </p:blipFill>
        <p:spPr>
          <a:xfrm>
            <a:off x="304920" y="914400"/>
            <a:ext cx="853416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on Commander – North/Yank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lonel Elmer Ellsworth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00"/>
                </a:solidFill>
                <a:latin typeface="Arial"/>
              </a:rPr>
              <a:t>(killed; McDowell takes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250px-Elmer_Ellsworth"/>
          <p:cNvPicPr/>
          <p:nvPr/>
        </p:nvPicPr>
        <p:blipFill>
          <a:blip r:embed="rId1"/>
          <a:stretch/>
        </p:blipFill>
        <p:spPr>
          <a:xfrm>
            <a:off x="5181480" y="1828800"/>
            <a:ext cx="30434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nion Commander – North/Yanke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neral Irvin McDowel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9900"/>
                </a:solidFill>
                <a:latin typeface="Arial"/>
              </a:rPr>
              <a:t>(lacks experi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300px-Irv_mcdowell"/>
          <p:cNvPicPr/>
          <p:nvPr/>
        </p:nvPicPr>
        <p:blipFill>
          <a:blip r:embed="rId1"/>
          <a:stretch/>
        </p:blipFill>
        <p:spPr>
          <a:xfrm>
            <a:off x="5108400" y="1828800"/>
            <a:ext cx="3154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federate Leader – South/Rebe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.G. T. Beaureg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7" descr="230px-Pgt_beauregard"/>
          <p:cNvPicPr/>
          <p:nvPr/>
        </p:nvPicPr>
        <p:blipFill>
          <a:blip r:embed="rId1"/>
          <a:stretch/>
        </p:blipFill>
        <p:spPr>
          <a:xfrm>
            <a:off x="5226120" y="1860480"/>
            <a:ext cx="292104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sident of the Confederate Sta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99900"/>
                </a:solidFill>
                <a:latin typeface="Arial"/>
              </a:rPr>
              <a:t>( travels by train to Bull Run to see the Union collapse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7" descr="225px-President-Jefferson-Davis"/>
          <p:cNvPicPr/>
          <p:nvPr/>
        </p:nvPicPr>
        <p:blipFill>
          <a:blip r:embed="rId1"/>
          <a:stretch/>
        </p:blipFill>
        <p:spPr>
          <a:xfrm>
            <a:off x="4876920" y="1905120"/>
            <a:ext cx="28652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lonel Oliver Bratt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likes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Knows the cruelty of wa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Disagrees with General Beauregar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3:15:14Z</dcterms:created>
  <dc:creator>teasterling</dc:creator>
  <dc:description/>
  <dc:language>en-US</dc:language>
  <cp:lastModifiedBy>Heather and Troy</cp:lastModifiedBy>
  <dcterms:modified xsi:type="dcterms:W3CDTF">2009-08-15T21:36:02Z</dcterms:modified>
  <cp:revision>24</cp:revision>
  <dc:subject/>
  <dc:title>Bull Run – by Paul Fleischman</dc:title>
</cp:coreProperties>
</file>